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754F7-4C2F-47FB-BAF7-50E18DFF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0E43F-25D6-42DC-9CF7-F1E7154A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35541-6A80-4240-8649-6E375868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81F8C-17B5-4D38-8BB8-C5519964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B38C-20A5-4161-976B-136CB4C1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247E-35E3-438D-8BA8-1A56020E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6AF2-A69F-459C-AA8D-7B621934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27AB-C057-4CB7-9BDC-FEE736D2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1129-DBE6-4706-ACE3-7F7F6D4D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DDBE-5AC8-4B8A-AEF8-63924793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1ED8-F7BE-4E6F-B664-24C30914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AE9AA-C330-44F8-B8D7-A14613C8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383F-2C1B-4764-AFC9-E8627086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33B5-DF9E-490E-A133-35C84E0B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45E4-A73E-4A5C-B399-773E65FC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D363-8F90-4DD3-B1BA-C9BE8709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5138-380B-44DF-A137-B37E120B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9E055-165D-46AF-91A8-DE67BD28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0E372-61F8-4594-8A39-FA3D2679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8D204-8E4E-4D51-8580-88913551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7E846-70CC-451F-B615-CC68F461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DC4C3-3148-44F2-98EE-586A49DE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74FD0-9378-469D-9A77-2BE30218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7AEFE-6963-47EF-BEE7-937BAB79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C224-0BEB-48EA-9812-ABC79131E1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A9C2-C67A-43F9-A5AA-FE342CF8E0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Garamond"/>
              </a:rPr>
              <a:t>General Safet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Foundations of Engineering and Technology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Up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ALWAYS CLEAN UP THE LABORATORY BEFORE YOU LEAVE!!!!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An unplanned event that may or may not result in an injury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96920"/>
            <a:ext cx="815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Garamond"/>
              </a:rPr>
              <a:t>What is an Accident?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666880" y="2517840"/>
            <a:ext cx="586764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USES OF ACCID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% of accidents are caused by human err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% of accidents are caused by unsafe conditions in the surroundin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52480" y="3886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91320" y="4038480"/>
            <a:ext cx="1444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ye Prot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03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fety Glas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ye Glass Side Shiel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gg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ull Face Shiel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05720" y="3733920"/>
            <a:ext cx="1504800" cy="1190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248520" y="5181480"/>
            <a:ext cx="2333520" cy="1257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09480" y="4724280"/>
            <a:ext cx="315288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038480" y="4267080"/>
            <a:ext cx="1828800" cy="2305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24280" y="1905120"/>
            <a:ext cx="41148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ALWAYS WEAR EYE PROTECTION WHEN WORKING IN THE LABORATOR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o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ways inspect a tool before you use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re is a damaged switch or cord on a power tool report it to your teacher immediately so that the tool can be put up for repai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ver touch a power tool if it is moving, wait until it comes to a complete stop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ways use the tool for it’s proper fun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Using Power Tools in the Laboratory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ways get permission from the teacher before you use the machine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ver talk to another student or the instructor while he/she is operating the machine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using the machinery stand only in the “Operator Zone” or the area where only the machinery operator should sta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ways unplug a power tool by the plug not the cor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s of Machi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rill Press – When cutting holes make sure the material is secured in a Vise or Gripping Tool.  Never hold the materia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nd Saw – Use the guide to push material through the blade and keep your hands from the blade.  Never force material, forcing means you are trying too hard and could bin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roll Saw – Move material slowly, keep your hand away from the blad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ander – Hold material firmly, always move against the spi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162920" y="1600200"/>
            <a:ext cx="1009440" cy="190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870680" y="3352680"/>
            <a:ext cx="1273320" cy="1859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629400" y="5181480"/>
            <a:ext cx="1660680" cy="1382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553080" y="3505320"/>
            <a:ext cx="120348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When in the Laboratory…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aboratory is a dangerous place if you are not caref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ver Horse Pl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ver Operate the machinery without checking with the teac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ose hair should be tied up, clothing tucked in, jewelry taken off, and long sleeves rolled up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an accident should happen contact the teacher immediate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aterial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nt, enamel, lacquer, or solvents must not be used near flames or sparks because they are flamma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flammable materials in the metal cabine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ver leave material lying around someone could get cut, slip, or fa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t metal placed in water can cause the water to be hot enough to burn some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5T04:43:59Z</dcterms:created>
  <dc:creator>Bobby  Joslin</dc:creator>
  <dc:description/>
  <dc:language>en-US</dc:language>
  <cp:lastModifiedBy>Katherine</cp:lastModifiedBy>
  <dcterms:modified xsi:type="dcterms:W3CDTF">2008-06-30T14:42:25Z</dcterms:modified>
  <cp:revision>10</cp:revision>
  <dc:subject/>
  <dc:title>ACCIDENT</dc:title>
</cp:coreProperties>
</file>